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17D-9324-4FC5-A4B4-A86E7265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786-39B0-40D0-BEFF-1FE7F84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9FD0-BF8E-4179-81F7-78E644B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B3B-A92E-45EE-AEB3-A0EB7146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BA19-F3F5-4193-BEEF-21E4671E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6357-107F-431B-B17A-1CE196BF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318-78D1-442B-A6B3-B728CAD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AF2-E7F8-4150-B1A1-88AC5F70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0175-361B-4B67-A9E6-4D4A5147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965-B753-4F47-84FB-8808E4E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8608-36C9-46D3-9F57-065BFDCA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71D-9649-4B14-8408-968B8247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C996-D30C-4926-A526-6BF8657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6A0A-484F-4C21-94A9-B4BCF84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4BB-7F78-4541-954C-411D2F71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C1AB-DC40-47BA-922E-F772D24A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0595-531D-483D-9D83-C07CB45F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FD7A-5E22-44F5-985B-664DDA7F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152A-8BC7-4EF9-9E26-1647634D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5110-8CA2-43E2-851B-3BA7F6E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3C92-1D53-4D65-B1E4-F615ABD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7784-DAF3-47F3-B31E-DFC94750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60C-7717-434D-BE40-F1E598F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5824-B0AB-4C7E-8078-070D2FC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0F6B-D084-4B38-9B95-B8E2A1E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7A6B-8645-427C-848C-27E5F50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43BD-1CC1-41A3-97AA-A31B1E9A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CB62-C0B5-4CF7-9321-B66BDB7B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47E4-9380-4582-ABBB-2B808FE5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FB03-207D-4FF5-8F2C-88616153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3C7A-C819-4E41-B98E-AA6E3BAD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4583-0602-4826-A05B-FED5B71A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DC65-4D58-4E68-9E9B-9537476B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920-7063-4C9C-BA9C-F76D6BE6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2BAE-6676-4BBC-836A-A5CBD02A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CC9F-2646-426B-8FEC-DE4D9F91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DCFC-5671-470E-98A6-BFE56D7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5CA20-9D83-4EE6-B0AD-E85D7994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D4EEB-924B-4BA3-9FAF-9EE23E73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0A25-BAB4-4AF2-9C1B-4BDE567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FFC9E-0FFE-4DAB-B885-2312AFCA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58D7-5F4F-4038-9145-7C0E4901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4EA4-B948-4240-A437-8B822944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C338-AA4E-4443-8914-65F02430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D8F-38D3-4DDD-937B-2FC6F53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D95F4-524A-4B82-BBA5-181D5ADF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F58EB-BEF6-4B25-AD62-8BAD25D9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36052-EB82-412B-AD7A-B29DA661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3C25F-9F16-46D8-A289-A1C7BDAE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EB69-06DD-4BAC-A8CF-F712243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332A2-C3B1-4559-A2A8-1E66A84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D973-184A-4932-8D3F-3C449BF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CB9CA-6E6A-4F3E-890A-D63AAF4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6F88-E7C5-4166-BD93-0E95889C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900FC-F177-4D33-92EB-866BC383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4AD-860C-4A69-96C2-67F1EE2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F577F-FB15-432D-B6FA-F55AB9F0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EF63-9C29-4E57-A538-B1527852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2E97-86E5-4C2B-9810-9AD72E3C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1B24-BCB9-4A4E-8C87-105131D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6094-6E32-410D-8321-CFA34825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DCC3-5785-449A-B0D5-AE9EE778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90A13-430B-47DE-A435-A5A3FA92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5828A-E8DF-46FA-8CE0-963903E5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09BB-233A-4180-AF70-292CBB8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F978-3A6A-453C-A438-48B537C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448-C659-4C60-B537-55B0B80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1CC4C-4288-44A0-9128-5FA51C7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83D79-9B54-4800-8EA7-CE4D8C2F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814E-3299-4D8C-BAB8-4260A969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862C-1EF3-47EA-91EB-D8E60E29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CD36-657E-4EEC-BE22-26ECF573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26C3F-8AFA-4B95-8993-504320F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94057-44CE-4CE6-B87D-B9EE621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9A9CE-9938-4DDA-B29A-D7359CF6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7157-F189-431A-BC7C-6CF2EEF9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76A3-6249-49F2-80A7-B1260D7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6D6-23E1-4DE7-AB70-F9DCF3C3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C091-257A-47BB-A0B6-FFA42D8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6C793-C65D-4F6C-9B12-56B26B6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0BA9-BD3C-43D8-B1E2-185A1150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AA72-F924-42B7-AB24-4CFCFD11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8D659-45AD-43E4-9111-FD360613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A67E-4FF4-49C7-AF45-AE1B9CF7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C32D-7F5D-415E-97C5-61FC70C4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B113-267D-4596-A47C-708EED8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50EFD-DFAE-4D08-8432-8FFC96F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E9F30-CB2F-4012-A549-CCB6949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925-6BD0-43D5-BBA9-CBF02CE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6B99-EC86-472A-8846-0AF5BFF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B4622-4BF3-467B-8949-8FDF00D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30CE8-C8F3-4224-9DB2-EC97F04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D3798-BBAD-4405-B40E-AD1FC83D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3389B-6361-4AA7-8801-5E7172AE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94749-6E7D-4FC8-884A-70D83E91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A193-62D4-43F0-9C3D-0F6C4FA4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5FF-4AB5-45F9-890E-1B26CC9A951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48e16"/>
              </a:gs>
              <a:gs pos="100000">
                <a:srgbClr val="b7ff8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354A-8817-48E0-B1BB-51A4201330D5}" type="slidenum">
              <a:rPr b="0" lang="ro-RO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BA4E-AD4B-47C3-B0FD-AF0E614862FD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48e16"/>
              </a:gs>
              <a:gs pos="100000">
                <a:srgbClr val="b7ff8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420-7A97-4AE3-B8C8-758DE7DE46C6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E5E-0346-4B47-AAC0-7410621D2F9E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905-D0C6-44B1-BB74-5E9A0CF8C652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635-F1E3-4422-8261-E6540D22547D}" type="slidenum">
              <a:rPr b="0" lang="ro-RO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A525-4E3D-441A-8F98-32B262A1CCFA}" type="slidenum">
              <a:rPr b="0" lang="ro-RO" sz="9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Haettenschweiler"/>
              </a:rPr>
              <a:t>Notre objectif est de proteger l’environement . Parce-que  si on continue comme ca on ves arriver detruire la Terre.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49" name="Picture 2" descr="C:\Users\Rozina\Downloads\DISTRUGERE.jpg"/>
          <p:cNvPicPr/>
          <p:nvPr/>
        </p:nvPicPr>
        <p:blipFill>
          <a:blip r:embed="rId2"/>
          <a:stretch/>
        </p:blipFill>
        <p:spPr>
          <a:xfrm>
            <a:off x="749160" y="3852720"/>
            <a:ext cx="3322800" cy="2724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universetoday.com/wp-content/uploads/2010/12/Air-Pollution.jpg"/>
          <p:cNvPicPr/>
          <p:nvPr/>
        </p:nvPicPr>
        <p:blipFill>
          <a:blip r:embed="rId3"/>
          <a:stretch/>
        </p:blipFill>
        <p:spPr>
          <a:xfrm>
            <a:off x="4797360" y="2365200"/>
            <a:ext cx="37432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4127760" cy="1444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4114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Haettenschweiler"/>
              </a:rPr>
              <a:t>Dans le meilleur cas, l’industrie petroliere  n’existera  pas, en plus si on ne chassera  pas les animaux excessive , ca sera parfait.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4716360" y="404640"/>
            <a:ext cx="395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hiller"/>
              </a:rPr>
              <a:t>Dans le pire cas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54" name="Picture 4" descr="http://t3.gstatic.com/images?q=tbn:ANd9GcRcYljMoXaD6CUH9eHd2Q4XdnAZQ4o1GbnrKdI1VLm4eccmh5m2Lg"/>
          <p:cNvPicPr/>
          <p:nvPr/>
        </p:nvPicPr>
        <p:blipFill>
          <a:blip r:embed="rId2"/>
          <a:stretch/>
        </p:blipFill>
        <p:spPr>
          <a:xfrm>
            <a:off x="250920" y="4653000"/>
            <a:ext cx="4244760" cy="144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55" name="TextBox 8"/>
          <p:cNvSpPr/>
          <p:nvPr/>
        </p:nvSpPr>
        <p:spPr>
          <a:xfrm>
            <a:off x="4859280" y="1773360"/>
            <a:ext cx="4105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ndalus"/>
              <a:buChar char="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hiller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hiller"/>
              </a:rPr>
              <a:t>Dans le pire de cas, les hommes qui continue de poluer vont creer un phenomene qui s’apelle le “rechauffement”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56" name="Picture 2" descr="http://t2.gstatic.com/images?q=tbn:ANd9GcR2X-AMx3YnBWp3l-b1vcMyIkrYC__akOjha4Q2i8mN85pfWyOn5gF8pdeP"/>
          <p:cNvPicPr/>
          <p:nvPr/>
        </p:nvPicPr>
        <p:blipFill>
          <a:blip r:embed="rId3"/>
          <a:stretch/>
        </p:blipFill>
        <p:spPr>
          <a:xfrm>
            <a:off x="5456160" y="3809880"/>
            <a:ext cx="32371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On devrait: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Etaindre la lumiere et les appareils electriqu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Prendre une douche rapide sans laisser l’eau couler inutil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Trier et recycler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Voyager plus avec les transports commun 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Aller dans la foret pour planter des arbr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Choisir les sacs recyclable, pas les sacs de plastiqu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	</a:t>
            </a:r>
            <a:r>
              <a:rPr b="0" lang="en-US" sz="3100" spc="-1" strike="noStrike">
                <a:solidFill>
                  <a:srgbClr val="92d050"/>
                </a:solidFill>
                <a:latin typeface="Haettenschweiler"/>
              </a:rPr>
              <a:t>La terre est ton responsabilite, aussi!!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29:25Z</dcterms:created>
  <dc:creator>Rozina</dc:creator>
  <dc:description/>
  <dc:language>en-US</dc:language>
  <cp:lastModifiedBy>Rozina</cp:lastModifiedBy>
  <dcterms:modified xsi:type="dcterms:W3CDTF">2012-02-05T17:52:55Z</dcterms:modified>
  <cp:revision>4</cp:revision>
  <dc:subject/>
  <dc:title>Environnementalistes</dc:title>
</cp:coreProperties>
</file>